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F48-BEB3-471C-8B2C-3EF65651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D9E-BD1E-4803-8204-D86B8BF4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4EC6F-18A3-4B45-ADCE-8BDE3228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84D253-1952-4905-B26A-3961D024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0C6BD3-035F-4CAF-9C60-1AE61625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040EF7-F1A9-44C1-B2A6-AFE03802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A0B1D4-8B53-40C9-8099-70AFF82F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176E2B-89C7-47D9-BE5C-D41ED882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2252F6-24FB-4E53-BD67-2F184287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37C5AD-4A5F-4A5B-B122-984A71B0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4A541B-4F52-4DCA-A20F-79E16BB6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424-377D-402A-A583-4B3C95C6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8AF-9D72-4F78-8FD9-3EF5F056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3BB71-F251-49E5-828D-9C3CF7CF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8E9FA-FDCC-478A-AF56-1647BE1F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AD6EE-D0D4-4E55-8800-6BB842E5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88495-03BB-4647-8D59-B65F4FBB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A6B8E-7EF4-4A26-8D8A-BAB87003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4491F-56B0-411A-BA16-0863574A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61236-D03F-4872-8BDE-581782E6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94A-7BFB-426D-AB9B-F29983C6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09B94-6430-45EA-ADE8-0667D438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ABCC7-8246-43CF-8170-68662F28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5CE50-98AF-4325-A25C-0EA67E81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63662-CE5A-413A-8D54-F00689FD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DF106-0035-4123-8121-CF6E1115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A575-C35F-4B93-823C-9E25F7EF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0A99-AE01-4FC1-8F01-71E0187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AB61-D241-4FBE-8724-EB77D7F4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88182-8FD9-4EF1-A49E-786E1122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9D1F-0179-4737-8BD7-1D122BE5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2E9-6632-4E07-851C-90D7CD5A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1A63-ECDF-4068-83A4-E97C635F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B53C-98FA-40BF-9FCB-0D782A4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554B-998F-4A47-AD41-283F117C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17EF-8380-4797-8651-30256EC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C018-D96D-46D0-8207-A56D8E3A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FC0A-6E65-4FCC-8278-FDFE687A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A1FFD-4B9E-45A2-882D-B1DBE4A1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92D33-853F-45AD-A9B3-6B1E047A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320B76-DC49-4FF4-83B0-B739F65C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D8F23-8F85-4853-8D1C-70EF6635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36B-77B2-4578-80C9-8B88F91C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52626-0A40-4732-A9DA-2B643CCD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9D1BD-7699-466C-BDDF-0C091BC0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AC44B-6530-44F8-BD02-1992DC5E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95F73-4FBB-4927-B067-02EC73EB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84E3E-B3B2-4EEE-A9C1-A55AD3F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784F7-7659-4CC2-B3FF-E67AB33E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100B2-2C74-4435-9FE9-FB7B2E3B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555C0-20C8-4037-81E2-6B4B2FD2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16917-EA5F-4867-B4AF-3FA07433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45F05-2C09-498F-8051-1CEF5AEA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595-993F-4118-AEFE-78BB53A7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AD19A-03A3-4FED-8D9F-AE7BC7E7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9FAF-DA28-45E3-9F51-3CD7E5D3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3CE9-BF3A-42F0-BD9D-BA60E573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39358-59F1-467B-BAB5-31EF171C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6618-0F6D-4036-93B2-AB31AB44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566F7-E955-4562-8E55-69DCC8FF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E715-E531-4835-A41C-7169880B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6366F-04C2-47FF-B9E1-E422A5F9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06B36-AA0B-4A4B-81F5-720204A4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F2AAC-3900-4E87-AF0A-3E6E50D1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606-FBBD-4425-9AC1-1620DC4C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FE770-4989-4010-90C2-AEABF84E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690D-93E4-4546-BABD-94564EB8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6F493-65C1-4316-AB6E-E9AB27C1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E32B4-75C3-41B6-ACF8-C669C088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81A86-6A53-4C32-92D2-2D454B9F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014EA-C136-4366-924F-45022CB9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ED0D5-7904-4901-B140-C7B6BF5B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0F42E-6ECE-4E06-85A6-E6D7155D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6241-8852-4A77-93C5-2CAFFBE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EA2C-A5EA-4E6C-B94B-38467DA7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94A-EC98-41EF-AC70-48807236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094D7-A143-4CCC-BF45-E33F310A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82B29-2CC3-4E20-8313-DD117239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A9CEC-4B2B-4ED6-BA81-B38C6AA2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3CF0D-5C49-4955-BD94-B8763013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388C2-77F6-4CB9-A9F4-01DE3C2A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F151E-B85A-4CEC-BE0F-BCA52275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B67FC-E6F5-4753-A6CA-9DCB8724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7B398-ED07-4B3B-AA76-CB35E69E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1DA05-8B4F-43A7-9F83-31C4C72F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5F2DF-EDBB-4820-87FD-25403516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A35-80CB-4F11-90CC-BA24E0E2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993B7-93D3-4672-AF4A-883C1BDD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FB3BE-A4E8-4651-B380-25095657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D0E70-F630-4B69-9D28-F965FFE9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DC44E-CCA1-4956-A55C-E5B880BC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3C07C-2A7E-4695-9C11-3CC83A70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FC87DB-3F3C-4139-AE13-C6D68FB9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B6FFF-4EB6-443F-B9EE-CB319C83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CEF786-DFBF-4BDC-907E-6284C979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14CDA1-1681-4986-960E-3C427A75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C2EE0-2431-4368-BC53-6FE93094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134-F475-400F-89E8-97DDCC85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1DA0FE-BBCE-4173-8F5D-18BDC086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E6643E-6ECE-4EB7-9D6D-932026C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EE8613-E638-4710-B5B9-3D8927B9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C7BCB7-D354-40D2-9025-954709FD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4ED1E7-03C7-4BA7-91D3-909DE92A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CE4778-DB28-471C-860E-F6E2195F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B24A47-16A9-487A-9978-9DB05AAA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84F8E6-6820-4454-8A79-C3C98C22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9F51CF-BFEB-4679-9032-805D00CB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6724FA-7F4C-4AE9-A11B-39070E25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3688-296C-40F0-8F4B-DE4B4188D09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59E2-34F3-4B67-A52D-C0F40D573C1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45D2-27D4-4589-80A4-AF35D856A8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422C-2DD1-439B-A8B6-283B9B4857F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0FD1-B57D-4A6C-B200-C5A30946AC2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E34E-EB0A-42D2-8045-8421A186A4F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AB9-1C3B-4994-A855-03EF1DC014F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868B-C0B7-42B5-B831-70E88D32D96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D923-4778-4E10-B905-9F2D515F028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6/6c/USS_Bunker_Hill_burning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By: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Brandon Lowery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Sara Weber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Laura Mansfield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Anna Carias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4" descr="http://www.english-online.at/history/kamikaze/american_ship_hit_by_kamikaze.jpg"/>
          <p:cNvPicPr/>
          <p:nvPr/>
        </p:nvPicPr>
        <p:blipFill>
          <a:blip r:embed="rId2"/>
          <a:stretch/>
        </p:blipFill>
        <p:spPr>
          <a:xfrm>
            <a:off x="0" y="4327560"/>
            <a:ext cx="3648240" cy="2530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638360" cy="2076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www.religionfacts.com/shinto/images/shichi-go-san-boy-kyoto-heian-cc-kamoda.jpg"/>
          <p:cNvPicPr/>
          <p:nvPr/>
        </p:nvPicPr>
        <p:blipFill>
          <a:blip r:embed="rId1"/>
          <a:stretch/>
        </p:blipFill>
        <p:spPr>
          <a:xfrm>
            <a:off x="0" y="0"/>
            <a:ext cx="227808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http://news.xinhuanet.com/english/2008-03/15/xinsrc_552030515101915605481.jpg"/>
          <p:cNvPicPr/>
          <p:nvPr/>
        </p:nvPicPr>
        <p:blipFill>
          <a:blip r:embed="rId2"/>
          <a:stretch/>
        </p:blipFill>
        <p:spPr>
          <a:xfrm>
            <a:off x="2133720" y="3733920"/>
            <a:ext cx="4624200" cy="3124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www.inukshuk.com/images/anoee_family_bw_sm.jpg"/>
          <p:cNvPicPr/>
          <p:nvPr/>
        </p:nvPicPr>
        <p:blipFill>
          <a:blip r:embed="rId3"/>
          <a:stretch/>
        </p:blipFill>
        <p:spPr>
          <a:xfrm>
            <a:off x="5562720" y="152280"/>
            <a:ext cx="3419280" cy="27180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7"/>
          <p:cNvSpPr/>
          <p:nvPr/>
        </p:nvSpPr>
        <p:spPr>
          <a:xfrm>
            <a:off x="2286000" y="1522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Sen Jin as a young child.</a:t>
            </a:r>
            <a:endParaRPr b="0" lang="en-US" sz="1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5638680" y="2895480"/>
            <a:ext cx="31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Sen Jin and his Family.</a:t>
            </a:r>
            <a:endParaRPr b="0" lang="en-US" sz="1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TextBox 9"/>
          <p:cNvSpPr/>
          <p:nvPr/>
        </p:nvSpPr>
        <p:spPr>
          <a:xfrm>
            <a:off x="3048120" y="3352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Sen Jin and his classmates. </a:t>
            </a:r>
            <a:endParaRPr b="0" lang="en-US" sz="1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http://1.bp.blogspot.com/_gRWMZ-x-wV0/SbGjK25-h8I/AAAAAAAAECY/5sZhFDeXb-s/s400/Kamikaze2%5B1%5D.JPG"/>
          <p:cNvPicPr/>
          <p:nvPr/>
        </p:nvPicPr>
        <p:blipFill>
          <a:blip r:embed="rId1"/>
          <a:stretch/>
        </p:blipFill>
        <p:spPr>
          <a:xfrm>
            <a:off x="609480" y="0"/>
            <a:ext cx="3810240" cy="3133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http://hansimann.files.wordpress.com/2009/06/kamikaze-martyrs.jpg"/>
          <p:cNvPicPr/>
          <p:nvPr/>
        </p:nvPicPr>
        <p:blipFill>
          <a:blip r:embed="rId2"/>
          <a:stretch/>
        </p:blipFill>
        <p:spPr>
          <a:xfrm>
            <a:off x="2666880" y="36576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oldier must make loyalty his obligatio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oldier must make propriety his way of lif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oldier must highly esteem military valo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oldier must have a high regard for righteousne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oldier must live a simple lif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Microsoft Flight Simulator 2004 Addon - Japanese Navy Mitsubishi A6M2-21 Zero screenshot 2"/>
          <p:cNvPicPr/>
          <p:nvPr/>
        </p:nvPicPr>
        <p:blipFill>
          <a:blip r:embed="rId1"/>
          <a:stretch/>
        </p:blipFill>
        <p:spPr>
          <a:xfrm>
            <a:off x="380880" y="0"/>
            <a:ext cx="3581640" cy="2689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http://farm3.static.flickr.com/2430/3567784834_8d7e801c34.jpg"/>
          <p:cNvPicPr/>
          <p:nvPr/>
        </p:nvPicPr>
        <p:blipFill>
          <a:blip r:embed="rId2"/>
          <a:stretch/>
        </p:blipFill>
        <p:spPr>
          <a:xfrm>
            <a:off x="342900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contrailscience.com/wp-content/uploads/boeing_b-47b_rocket-assisted_take_off.jpg"/>
          <p:cNvPicPr/>
          <p:nvPr/>
        </p:nvPicPr>
        <p:blipFill>
          <a:blip r:embed="rId1"/>
          <a:stretch/>
        </p:blipFill>
        <p:spPr>
          <a:xfrm>
            <a:off x="0" y="0"/>
            <a:ext cx="3584520" cy="2819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http://t2.gstatic.com/images?q=tbn:LXw-5vyuRcWr8M:http://www.hightech-edge.com/wp-content/uploads/mitsubishi-zero-sen.jpg"/>
          <p:cNvPicPr/>
          <p:nvPr/>
        </p:nvPicPr>
        <p:blipFill>
          <a:blip r:embed="rId2"/>
          <a:stretch/>
        </p:blipFill>
        <p:spPr>
          <a:xfrm>
            <a:off x="6019920" y="304920"/>
            <a:ext cx="2876400" cy="1809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ttp://hsfeatures.com/features04/images/A6M2_1.jpg"/>
          <p:cNvPicPr/>
          <p:nvPr/>
        </p:nvPicPr>
        <p:blipFill>
          <a:blip r:embed="rId3"/>
          <a:stretch/>
        </p:blipFill>
        <p:spPr>
          <a:xfrm>
            <a:off x="1143000" y="3733920"/>
            <a:ext cx="6095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http://wgordon.web.wesleyan.edu/kamikaze/films/tokyofile212/image2.jpg"/>
          <p:cNvPicPr/>
          <p:nvPr/>
        </p:nvPicPr>
        <p:blipFill>
          <a:blip r:embed="rId1"/>
          <a:stretch/>
        </p:blipFill>
        <p:spPr>
          <a:xfrm>
            <a:off x="1676520" y="1676520"/>
            <a:ext cx="5403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gadabyte.com/ww-ii/images/pacific/air/okinawa.jpg"/>
          <p:cNvPicPr/>
          <p:nvPr/>
        </p:nvPicPr>
        <p:blipFill>
          <a:blip r:embed="rId1"/>
          <a:stretch/>
        </p:blipFill>
        <p:spPr>
          <a:xfrm>
            <a:off x="0" y="0"/>
            <a:ext cx="2211480" cy="2666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http://www.chinfo.navy.mil/navpalib/ships/destroyers/dd724-laffey.jpg"/>
          <p:cNvPicPr/>
          <p:nvPr/>
        </p:nvPicPr>
        <p:blipFill>
          <a:blip r:embed="rId2"/>
          <a:stretch/>
        </p:blipFill>
        <p:spPr>
          <a:xfrm>
            <a:off x="1066680" y="4562640"/>
            <a:ext cx="6172200" cy="2295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www.english-online.at/history/kamikaze/american_ship_hit_by_kamikaze.jpg"/>
          <p:cNvPicPr/>
          <p:nvPr/>
        </p:nvPicPr>
        <p:blipFill>
          <a:blip r:embed="rId3"/>
          <a:stretch/>
        </p:blipFill>
        <p:spPr>
          <a:xfrm>
            <a:off x="3657600" y="152280"/>
            <a:ext cx="430704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5:23:42Z</dcterms:created>
  <dc:creator>Installer</dc:creator>
  <dc:description/>
  <dc:language>en-US</dc:language>
  <cp:lastModifiedBy>Information Technology</cp:lastModifiedBy>
  <dcterms:modified xsi:type="dcterms:W3CDTF">2010-02-10T16:06:35Z</dcterms:modified>
  <cp:revision>8</cp:revision>
  <dc:subject/>
  <dc:title>"One Man One Ship"</dc:title>
</cp:coreProperties>
</file>